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00A-8E8A-4DD4-B425-C9BBDCE1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FF9-8B1A-49F2-A52B-0EABAA5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055-883D-410E-9F9D-052588B3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052-B4BE-4C41-9DBF-A57B00E8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E45-500D-4433-9043-D0A1C6EC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A1E-BEF8-4781-AC8F-0F0F46E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F0B-A292-402F-B1EA-8D3C3228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1FE-43B2-45C9-859C-E8A6BBC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F0A-A72B-4002-A0F5-06422034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A79-ADCC-444B-91E1-84400F6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B23-4C21-48D1-9F42-41EA293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D3F-70B9-4B71-9F15-1950A906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dc9e1f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dc9e1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652829-44C1-4B09-A0CD-25AD8F8B8D53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g.habazavr.ru/prezentaciya-uchitelnica-u-doski/uchitelnica-u-doski_005.png"/>
          <p:cNvPicPr/>
          <p:nvPr/>
        </p:nvPicPr>
        <p:blipFill>
          <a:blip r:embed="rId1"/>
          <a:srcRect l="-6724" t="756" r="6724" b="42966"/>
          <a:stretch/>
        </p:blipFill>
        <p:spPr>
          <a:xfrm>
            <a:off x="-1188720" y="980640"/>
            <a:ext cx="10486440" cy="4062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737640" y="1556640"/>
            <a:ext cx="626436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Вероятность случайного события. Вероятности событий в опытах с равновозможными элементарными событиями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25280" y="5301360"/>
            <a:ext cx="84294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Шабаева Е.Н., Тонеева Е.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79640" y="219240"/>
            <a:ext cx="8429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МБОУ МПЛ г. Димитровграда Ульян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43640" y="4220280"/>
            <a:ext cx="122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612be"/>
                </a:solidFill>
                <a:latin typeface="Trebuchet MS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928800" y="1508760"/>
            <a:ext cx="57862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Исправьте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376920" y="2371320"/>
            <a:ext cx="550044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 результате случайного опыта обязательно наступает только тысяча элементарное собы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s://avatars.mds.yandex.net/i?id=2256c4094bd489fd573fd23cae53e847_l-9100078-images-thumbs&amp;n=13"/>
          <p:cNvPicPr/>
          <p:nvPr/>
        </p:nvPicPr>
        <p:blipFill>
          <a:blip r:embed="rId1"/>
          <a:srcRect l="0" t="0" r="43939" b="2906"/>
          <a:stretch/>
        </p:blipFill>
        <p:spPr>
          <a:xfrm>
            <a:off x="6948360" y="260640"/>
            <a:ext cx="1769040" cy="1778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8"/>
          <p:cNvSpPr/>
          <p:nvPr/>
        </p:nvSpPr>
        <p:spPr>
          <a:xfrm>
            <a:off x="342720" y="3757680"/>
            <a:ext cx="550044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При бросании игральной кости элементарным событием является беспорядочная тройка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9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1071360" y="1071720"/>
            <a:ext cx="57862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Исправьте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460440" y="1967040"/>
            <a:ext cx="550044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 результате случайного опыта обязательно наступает только </a:t>
            </a: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одно</a:t>
            </a: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 элементарное собы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470520" y="3257640"/>
            <a:ext cx="550044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При бросании игральной кости элементарным событием является </a:t>
            </a: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упорядоченная пара </a:t>
            </a: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6909480" y="548640"/>
            <a:ext cx="15271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714240" y="1647000"/>
            <a:ext cx="57862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Какие бывают собы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2"/>
          <p:cNvSpPr/>
          <p:nvPr/>
        </p:nvSpPr>
        <p:spPr>
          <a:xfrm>
            <a:off x="928800" y="2781000"/>
            <a:ext cx="7457760" cy="3350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rebuchet MS"/>
              </a:rPr>
              <a:t>В неде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rebuchet MS"/>
              </a:rPr>
              <a:t>В среду будет урок алгеб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rebuchet MS"/>
              </a:rPr>
              <a:t>30 февраля у 8 б класса  будет урок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rebuchet MS"/>
              </a:rPr>
              <a:t>Все кошки черн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rebuchet MS"/>
              </a:rPr>
              <a:t>Сегодня будет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rebuchet MS"/>
              </a:rPr>
              <a:t>за вечером следует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s://avatars.mds.yandex.net/i?id=2256c4094bd489fd573fd23cae53e847_l-9100078-images-thumbs&amp;n=13"/>
          <p:cNvPicPr/>
          <p:nvPr/>
        </p:nvPicPr>
        <p:blipFill>
          <a:blip r:embed="rId1"/>
          <a:srcRect l="0" t="0" r="43939" b="2906"/>
          <a:stretch/>
        </p:blipFill>
        <p:spPr>
          <a:xfrm>
            <a:off x="6948360" y="260640"/>
            <a:ext cx="1769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6129000" y="2527920"/>
            <a:ext cx="2214360" cy="20098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озм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Сегодня будет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В среду будет урок алгеб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1161720" y="1647000"/>
            <a:ext cx="57862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Какие бывают собы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2"/>
          <p:cNvSpPr/>
          <p:nvPr/>
        </p:nvSpPr>
        <p:spPr>
          <a:xfrm>
            <a:off x="460440" y="2523600"/>
            <a:ext cx="2311200" cy="2284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Невозмож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30 февраля у 8 б класса  будет урок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Все кошки чер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>
            <a:off x="3276000" y="2523600"/>
            <a:ext cx="2304000" cy="1735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Достовер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за</a:t>
            </a: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вечером следует н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rebuchet MS"/>
              </a:rPr>
              <a:t>В неделе 7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6909480" y="548640"/>
            <a:ext cx="15271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8"/>
          <p:cNvSpPr/>
          <p:nvPr/>
        </p:nvSpPr>
        <p:spPr>
          <a:xfrm>
            <a:off x="928800" y="500040"/>
            <a:ext cx="5571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Рисунок 7"/>
          <p:cNvSpPr/>
          <p:nvPr/>
        </p:nvSpPr>
        <p:spPr>
          <a:xfrm>
            <a:off x="564372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s://fsd.multiurok.ru/html/2022/12/29/s_63ad320aedba9/phpwz06xS_konspekt-uroka_html_d5c19509d540dd7b.png"/>
          <p:cNvPicPr/>
          <p:nvPr/>
        </p:nvPicPr>
        <p:blipFill>
          <a:blip r:embed="rId2"/>
          <a:stretch/>
        </p:blipFill>
        <p:spPr>
          <a:xfrm>
            <a:off x="751680" y="2277000"/>
            <a:ext cx="6984360" cy="20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8"/>
          <p:cNvSpPr/>
          <p:nvPr/>
        </p:nvSpPr>
        <p:spPr>
          <a:xfrm>
            <a:off x="928800" y="500040"/>
            <a:ext cx="5571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755640" y="2133000"/>
            <a:ext cx="7459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2612be"/>
                </a:solidFill>
                <a:latin typeface="Trebuchet MS"/>
              </a:rPr>
              <a:t>Вероятность случайного собы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исунок 7"/>
          <p:cNvSpPr/>
          <p:nvPr/>
        </p:nvSpPr>
        <p:spPr>
          <a:xfrm>
            <a:off x="564372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5"/>
          <p:cNvSpPr/>
          <p:nvPr/>
        </p:nvSpPr>
        <p:spPr>
          <a:xfrm>
            <a:off x="3850200" y="1484640"/>
            <a:ext cx="46458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«Вероятность – возможность исполн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осуществимости чего-нибу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2612be"/>
                </a:solidFill>
                <a:latin typeface="Times New Roman"/>
              </a:rPr>
              <a:t>Словарь Ожегов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67800" y="5085360"/>
            <a:ext cx="3916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Сергей Иванович Ожегов </a:t>
            </a:r>
            <a:br>
              <a:rPr sz="1400"/>
            </a:b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(1900 —1964)</a:t>
            </a:r>
            <a:br>
              <a:rPr sz="1400"/>
            </a:b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 — советский лингвист, лексикограф, </a:t>
            </a:r>
            <a:br>
              <a:rPr sz="1400"/>
            </a:b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доктор филологических наук, професс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icture 2"/>
          <p:cNvSpPr/>
          <p:nvPr/>
        </p:nvSpPr>
        <p:spPr>
          <a:xfrm>
            <a:off x="899640" y="1196640"/>
            <a:ext cx="2448000" cy="32641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8"/>
          <p:cNvSpPr/>
          <p:nvPr/>
        </p:nvSpPr>
        <p:spPr>
          <a:xfrm>
            <a:off x="767520" y="600480"/>
            <a:ext cx="5571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овая 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исунок 7"/>
          <p:cNvSpPr/>
          <p:nvPr/>
        </p:nvSpPr>
        <p:spPr>
          <a:xfrm>
            <a:off x="564372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rcRect l="23748" t="26047" r="37348" b="25722"/>
          <a:stretch/>
        </p:blipFill>
        <p:spPr>
          <a:xfrm>
            <a:off x="755640" y="1785960"/>
            <a:ext cx="6336360" cy="44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icture 2"/>
          <p:cNvSpPr/>
          <p:nvPr/>
        </p:nvSpPr>
        <p:spPr>
          <a:xfrm>
            <a:off x="467640" y="620640"/>
            <a:ext cx="7937280" cy="5633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611640" y="908640"/>
            <a:ext cx="7071840" cy="39290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Задача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Бросают одну  игральную кость. Найдите вероятность события – выпадет число кратное т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Всего: 1, 2, 3, 4, 5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Кратных трем: 3 и 6 -  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Р = 2/6 = 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s://e7.pngegg.com/pngimages/960/868/png-clipart-dice-dice.png"/>
          <p:cNvPicPr/>
          <p:nvPr/>
        </p:nvPicPr>
        <p:blipFill>
          <a:blip r:embed="rId1"/>
          <a:stretch/>
        </p:blipFill>
        <p:spPr>
          <a:xfrm>
            <a:off x="6516360" y="4869000"/>
            <a:ext cx="1985400" cy="12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852000" y="379800"/>
            <a:ext cx="4857480" cy="101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4376"/>
                </a:solidFill>
                <a:latin typeface="Monotype Corsiva"/>
                <a:ea typeface="Times New Roman"/>
              </a:rPr>
              <a:t>«Дорогу осилит идущ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115640" y="1340640"/>
            <a:ext cx="73324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icture 2"/>
          <p:cNvSpPr/>
          <p:nvPr/>
        </p:nvSpPr>
        <p:spPr>
          <a:xfrm>
            <a:off x="539640" y="548640"/>
            <a:ext cx="3708000" cy="2705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icture 3"/>
          <p:cNvSpPr/>
          <p:nvPr/>
        </p:nvSpPr>
        <p:spPr>
          <a:xfrm>
            <a:off x="4644000" y="482040"/>
            <a:ext cx="3672000" cy="2710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icture 2"/>
          <p:cNvSpPr/>
          <p:nvPr/>
        </p:nvSpPr>
        <p:spPr>
          <a:xfrm>
            <a:off x="644400" y="3645000"/>
            <a:ext cx="3693240" cy="2708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icture 2"/>
          <p:cNvSpPr/>
          <p:nvPr/>
        </p:nvSpPr>
        <p:spPr>
          <a:xfrm>
            <a:off x="4674960" y="3633120"/>
            <a:ext cx="3785400" cy="2767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2739600" y="618840"/>
            <a:ext cx="3393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2612be"/>
                </a:solidFill>
                <a:latin typeface="Times New Roman"/>
              </a:rPr>
              <a:t>Динамическая п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22077" t="29390" r="45592" b="23381"/>
          <a:stretch/>
        </p:blipFill>
        <p:spPr>
          <a:xfrm>
            <a:off x="179640" y="1716840"/>
            <a:ext cx="5082120" cy="417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rcRect l="26681" t="12835" r="46492" b="14331"/>
          <a:stretch/>
        </p:blipFill>
        <p:spPr>
          <a:xfrm>
            <a:off x="5508000" y="1412640"/>
            <a:ext cx="3052800" cy="43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899640" y="1628640"/>
            <a:ext cx="7212600" cy="4295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На соревнованиях по плаванию выступают спортсмены из трех городов: 12 из Москвы, 8 из Санкт-Петербурга и 14 из Димитровграда. Порядок выступления определяется жребием. Какова вероятность того что предпоследним выступает Димитровгра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Всего: 12+8+14=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Димитровградцев: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Р = 14/34 =7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1068120" y="271476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755640" y="3861000"/>
            <a:ext cx="7704360" cy="1919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Бросают одну игральную кость. Вычислите вероятность собы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а) «выпавшее число очков является делителем числа 1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б) «выпавшее число очков кратно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в) «выпадет больше 2 оч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г) «выпадет больше 1, но меньше 6 оч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526320" y="1237320"/>
            <a:ext cx="4302360" cy="1186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и №286(а,г), 288(а,г), 290(а) Стр.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778320" y="121644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971640" y="1917000"/>
            <a:ext cx="7704360" cy="13093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Бросают одну игральную кость. Вычислите вероятность собы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а) «выпавшее число очков является делителем числа 1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г) «выпадет больше 1, но меньше 6 оч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778320" y="4149000"/>
            <a:ext cx="7704360" cy="1919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ВСЕГО 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а) Делители 12: 1,2,3,4,6</a:t>
            </a:r>
            <a:br>
              <a:rPr sz="2000"/>
            </a:b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Вероятность: 5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г) Больше 1, но меньше 6 очков: 2,3,4,5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Вероятность: 4/6=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778320" y="121644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7"/>
          <p:cNvSpPr/>
          <p:nvPr/>
        </p:nvSpPr>
        <p:spPr>
          <a:xfrm>
            <a:off x="611640" y="2241720"/>
            <a:ext cx="7704360" cy="1614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Бросают две  игральные кости: желтую и зеленую. Вычислите вероятность собы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а) «сумма очков на обоих костях равна 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г) «число очков на костях различаются не больше чем на д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778320" y="121644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611640" y="1696320"/>
            <a:ext cx="7704360" cy="942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Бросают две  игральные кости: желтую и зеленую. Вычислите вероятность событ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а) «сумма очков на обоих костях равна 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г) «число очков на костях различаются не больше чем на дв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8"/>
          <p:cNvSpPr/>
          <p:nvPr/>
        </p:nvSpPr>
        <p:spPr>
          <a:xfrm>
            <a:off x="2123640" y="5373360"/>
            <a:ext cx="1656000" cy="72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а) 3 и4, 4и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Вероятность: 2/36=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Таблица 1"/>
          <p:cNvGraphicFramePr/>
          <p:nvPr/>
        </p:nvGraphicFramePr>
        <p:xfrm>
          <a:off x="1966320" y="3285000"/>
          <a:ext cx="1764000" cy="1708560"/>
        </p:xfrm>
        <a:graphic>
          <a:graphicData uri="http://schemas.openxmlformats.org/drawingml/2006/table">
            <a:tbl>
              <a:tblPr/>
              <a:tblGrid>
                <a:gridCol w="208080"/>
                <a:gridCol w="295920"/>
                <a:gridCol w="252000"/>
                <a:gridCol w="252000"/>
                <a:gridCol w="252000"/>
                <a:gridCol w="252000"/>
                <a:gridCol w="252000"/>
              </a:tblGrid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778320" y="121644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611640" y="1696320"/>
            <a:ext cx="7704360" cy="942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Бросают две  игральные кости: желтую и зеленую. Вычислите вероятность событ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а) «сумма очков на обоих костях равна 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г) «число очков на костях различаются не больше чем на дв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8"/>
          <p:cNvSpPr/>
          <p:nvPr/>
        </p:nvSpPr>
        <p:spPr>
          <a:xfrm>
            <a:off x="2123640" y="5373360"/>
            <a:ext cx="1656000" cy="72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а) 3 и4, 4и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Вероятность: 2/36=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Таблица 1"/>
          <p:cNvGraphicFramePr/>
          <p:nvPr/>
        </p:nvGraphicFramePr>
        <p:xfrm>
          <a:off x="1966320" y="3285000"/>
          <a:ext cx="1764000" cy="1708560"/>
        </p:xfrm>
        <a:graphic>
          <a:graphicData uri="http://schemas.openxmlformats.org/drawingml/2006/table">
            <a:tbl>
              <a:tblPr/>
              <a:tblGrid>
                <a:gridCol w="208080"/>
                <a:gridCol w="295920"/>
                <a:gridCol w="252000"/>
                <a:gridCol w="252000"/>
                <a:gridCol w="252000"/>
                <a:gridCol w="252000"/>
                <a:gridCol w="252000"/>
              </a:tblGrid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Таблица 14"/>
          <p:cNvGraphicFramePr/>
          <p:nvPr/>
        </p:nvGraphicFramePr>
        <p:xfrm>
          <a:off x="6228360" y="3213000"/>
          <a:ext cx="1799640" cy="1729440"/>
        </p:xfrm>
        <a:graphic>
          <a:graphicData uri="http://schemas.openxmlformats.org/drawingml/2006/table">
            <a:tbl>
              <a:tblPr/>
              <a:tblGrid>
                <a:gridCol w="208080"/>
                <a:gridCol w="295920"/>
                <a:gridCol w="287640"/>
                <a:gridCol w="252000"/>
                <a:gridCol w="252000"/>
                <a:gridCol w="252000"/>
                <a:gridCol w="252000"/>
              </a:tblGrid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43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437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4376"/>
                    </a:solidFill>
                  </a:tcPr>
                </a:tc>
              </a:tr>
              <a:tr h="22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2612be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6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612b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16"/>
          <p:cNvSpPr/>
          <p:nvPr/>
        </p:nvSpPr>
        <p:spPr>
          <a:xfrm>
            <a:off x="6300360" y="5373360"/>
            <a:ext cx="1656000" cy="72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4376"/>
                </a:solidFill>
                <a:latin typeface="Trebuchet MS"/>
              </a:rPr>
              <a:t>г)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Вероятность: 24/36=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778320" y="121644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611640" y="2277000"/>
            <a:ext cx="7704360" cy="15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В ящике 20 синих и 16 красных карандашей. Продавец не глядя вынимает один карандаш. Найдите вероятность что этот карандаш окажется си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4"/>
          <p:cNvSpPr/>
          <p:nvPr/>
        </p:nvSpPr>
        <p:spPr>
          <a:xfrm>
            <a:off x="1475640" y="600480"/>
            <a:ext cx="3357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778320" y="1216440"/>
            <a:ext cx="2376000" cy="455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Задача №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611640" y="2277000"/>
            <a:ext cx="7704360" cy="15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4376"/>
                </a:solidFill>
                <a:latin typeface="Trebuchet MS"/>
              </a:rPr>
              <a:t>В ящике 20 синих и 16 красных карандашей. Продавец не глядя вынимает один карандаш. Найдите вероятность что этот карандаш окажется си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1505520" y="4509000"/>
            <a:ext cx="5298480" cy="10044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Всего:20+16=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Синих: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Вероятность: 20/36=5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856800" y="212400"/>
            <a:ext cx="6235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роверка домашнего задания</a:t>
            </a:r>
            <a:br>
              <a:rPr sz="3200"/>
            </a:b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(взаимопровер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47840" y="2643480"/>
            <a:ext cx="253944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№</a:t>
            </a: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2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7020360" y="332640"/>
            <a:ext cx="1527120" cy="1701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466200" y="4293000"/>
            <a:ext cx="378396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№</a:t>
            </a: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2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528480" y="1084680"/>
            <a:ext cx="166680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№</a:t>
            </a:r>
            <a:r>
              <a:rPr b="1" i="1" lang="ru-RU" sz="2000" spc="-1" strike="noStrike">
                <a:solidFill>
                  <a:srgbClr val="004376"/>
                </a:solidFill>
                <a:latin typeface="Trebuchet MS"/>
              </a:rPr>
              <a:t>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415800" y="1496160"/>
            <a:ext cx="6571800" cy="1064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ООО       ООР        РРО          Р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              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ОРО        Р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              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РОО        ОРР    </a:t>
            </a:r>
            <a:r>
              <a:rPr b="1" lang="ru-RU" sz="2400" spc="-1" strike="noStrike">
                <a:solidFill>
                  <a:srgbClr val="7030a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415800" y="3081960"/>
            <a:ext cx="6571800" cy="1065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а) 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б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в) </a:t>
            </a:r>
            <a:r>
              <a:rPr b="0" i="1" lang="ru-RU" sz="2000" spc="-1" strike="noStrike">
                <a:solidFill>
                  <a:srgbClr val="7030a0"/>
                </a:solidFill>
                <a:latin typeface="Trebuchet MS"/>
              </a:rPr>
              <a:t>с, ас, вс, авс, в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528480" y="4797000"/>
            <a:ext cx="6571800" cy="7603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Наибольшее число 6, значит 17может быть 5+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566   656   6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928800" y="5733360"/>
            <a:ext cx="66434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«5» –все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«4» –ошибка в одном ном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«3»- ошибка в двух ном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2643120" y="500040"/>
            <a:ext cx="3357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714240" y="1928880"/>
            <a:ext cx="6161400" cy="1064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7030a0"/>
                </a:solidFill>
                <a:latin typeface="Trebuchet MS"/>
              </a:rPr>
              <a:t>№</a:t>
            </a:r>
            <a:r>
              <a:rPr b="1" i="1" lang="ru-RU" sz="3200" spc="-1" strike="noStrike">
                <a:solidFill>
                  <a:srgbClr val="7030a0"/>
                </a:solidFill>
                <a:latin typeface="Trebuchet MS"/>
              </a:rPr>
              <a:t>286(б,в), 288(б,в), 290(б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7030a0"/>
                </a:solidFill>
                <a:latin typeface="Trebuchet MS"/>
              </a:rPr>
              <a:t>стр.149-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1691640" y="708840"/>
            <a:ext cx="335736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2612be"/>
                </a:solidFill>
                <a:latin typeface="Trebuchet MS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Рисунок 15"/>
          <p:cNvSpPr/>
          <p:nvPr/>
        </p:nvSpPr>
        <p:spPr>
          <a:xfrm>
            <a:off x="5929200" y="0"/>
            <a:ext cx="3214440" cy="1785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139760" y="1909080"/>
            <a:ext cx="5604840" cy="35017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На уроке 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На уроке было легко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Было трудн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амое интересное на уро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Вероятность, что я верно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выполню домашнее зада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s://g.habazavr.ru/prezentaciya-uchitelnica-u-doski/uchitelnica-u-doski_005.png"/>
          <p:cNvPicPr/>
          <p:nvPr/>
        </p:nvPicPr>
        <p:blipFill>
          <a:blip r:embed="rId1"/>
          <a:srcRect l="-6724" t="756" r="6724" b="42966"/>
          <a:stretch/>
        </p:blipFill>
        <p:spPr>
          <a:xfrm>
            <a:off x="-1188720" y="980640"/>
            <a:ext cx="10486440" cy="4062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737640" y="1556640"/>
            <a:ext cx="6264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125280" y="5301360"/>
            <a:ext cx="8429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Шабаева Е.Н., Тонеева Е.С., Исаева Я.В., </a:t>
            </a:r>
            <a:br>
              <a:rPr sz="2000"/>
            </a:b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Краснова Т.В., Кожухарь Е. Д., Иванова А.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179640" y="219240"/>
            <a:ext cx="8429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2612be"/>
                </a:solidFill>
                <a:latin typeface="Trebuchet MS"/>
              </a:rPr>
              <a:t>МБОУ МПЛ г. Димитровграда Ульян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043640" y="2020320"/>
            <a:ext cx="7272360" cy="2222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Условия и случайным , при которых может называть случайное  экспериментом, принято наступить случайным опытом ил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событ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7020360" y="332640"/>
            <a:ext cx="1527120" cy="1701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339920" y="4797000"/>
            <a:ext cx="6643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2612be"/>
                </a:solidFill>
                <a:latin typeface="Trebuchet MS"/>
              </a:rPr>
              <a:t>Некоторые слова поменялись местами, восстановите исходный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1043640" y="2205000"/>
            <a:ext cx="7071840" cy="2222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Условия и действия, при которых может наступить случайное событие, принято называть случайным опытом или случайным эксперим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7020360" y="332640"/>
            <a:ext cx="15271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929880" y="2205000"/>
            <a:ext cx="7071840" cy="2222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Сытибое счуланогой отапы, коротые льнезя деразтьли на лоебе псроеты, зынавсютая эмеленнытамир соятимибы или меэлентанырми исми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714320" y="5500800"/>
            <a:ext cx="6643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2612be"/>
                </a:solidFill>
                <a:latin typeface="Trebuchet MS"/>
              </a:rPr>
              <a:t>Некоторые буквы поменялись местами, восстановите исходный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avatars.mds.yandex.net/i?id=2256c4094bd489fd573fd23cae53e847_l-9100078-images-thumbs&amp;n=13"/>
          <p:cNvPicPr/>
          <p:nvPr/>
        </p:nvPicPr>
        <p:blipFill>
          <a:blip r:embed="rId1"/>
          <a:srcRect l="0" t="0" r="43939" b="2906"/>
          <a:stretch/>
        </p:blipFill>
        <p:spPr>
          <a:xfrm>
            <a:off x="6712920" y="260640"/>
            <a:ext cx="1769040" cy="17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s://avatars.mds.yandex.net/i?id=2256c4094bd489fd573fd23cae53e847_l-9100078-images-thumbs&amp;n=13"/>
          <p:cNvPicPr/>
          <p:nvPr/>
        </p:nvPicPr>
        <p:blipFill>
          <a:blip r:embed="rId2"/>
          <a:srcRect l="0" t="0" r="43939" b="2906"/>
          <a:stretch/>
        </p:blipFill>
        <p:spPr>
          <a:xfrm>
            <a:off x="6865200" y="412920"/>
            <a:ext cx="1769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115640" y="2191680"/>
            <a:ext cx="7071840" cy="22226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Событие случайного опыта, которые нельзя разделить на более простые, называются элементарными событиями или элементарными исх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7020360" y="332640"/>
            <a:ext cx="15271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6429240" y="4643280"/>
            <a:ext cx="22143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озм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890640" y="1528920"/>
            <a:ext cx="57862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Какие бывают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6357960" y="2500200"/>
            <a:ext cx="21427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невозм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3"/>
          <p:cNvSpPr/>
          <p:nvPr/>
        </p:nvSpPr>
        <p:spPr>
          <a:xfrm>
            <a:off x="6500880" y="3480480"/>
            <a:ext cx="185688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достов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428760" y="2428920"/>
            <a:ext cx="55004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Иногда наступает, иногда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428760" y="3357720"/>
            <a:ext cx="55004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Никогда не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428760" y="4643280"/>
            <a:ext cx="55004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сегда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avatars.mds.yandex.net/i?id=2256c4094bd489fd573fd23cae53e847_l-9100078-images-thumbs&amp;n=13"/>
          <p:cNvPicPr/>
          <p:nvPr/>
        </p:nvPicPr>
        <p:blipFill>
          <a:blip r:embed="rId1"/>
          <a:srcRect l="0" t="0" r="43939" b="2906"/>
          <a:stretch/>
        </p:blipFill>
        <p:spPr>
          <a:xfrm>
            <a:off x="6948360" y="260640"/>
            <a:ext cx="1769040" cy="1778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8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6429240" y="4643280"/>
            <a:ext cx="22143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озм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714240" y="1647000"/>
            <a:ext cx="57862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4376"/>
                </a:solidFill>
                <a:latin typeface="Trebuchet MS"/>
              </a:rPr>
              <a:t>Какие бывают собы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6357960" y="2500200"/>
            <a:ext cx="21427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невозм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6500880" y="3480480"/>
            <a:ext cx="185688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достов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460440" y="4643280"/>
            <a:ext cx="55004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Иногда наступает, иногда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418680" y="2523960"/>
            <a:ext cx="55004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Никогда не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460440" y="3485160"/>
            <a:ext cx="55004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4376"/>
                </a:solidFill>
                <a:latin typeface="Trebuchet MS"/>
              </a:rPr>
              <a:t>Всегда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s://avatars.mds.yandex.net/i?id=2256c4094bd489fd573fd23cae53e847_l-9100078-images-thumbs&amp;n=13"/>
          <p:cNvPicPr/>
          <p:nvPr/>
        </p:nvPicPr>
        <p:blipFill>
          <a:blip r:embed="rId1"/>
          <a:srcRect l="49116" t="2301" r="0" b="0"/>
          <a:stretch/>
        </p:blipFill>
        <p:spPr>
          <a:xfrm>
            <a:off x="7020360" y="332640"/>
            <a:ext cx="1527120" cy="1701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9"/>
          <p:cNvSpPr/>
          <p:nvPr/>
        </p:nvSpPr>
        <p:spPr>
          <a:xfrm>
            <a:off x="928800" y="500040"/>
            <a:ext cx="557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2612be"/>
                </a:solidFill>
                <a:latin typeface="Trebuchet MS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695</TotalTime>
  <Application>LibreOffice/7.4.7.2$Linux_X86_64 LibreOffice_project/40$Build-2</Application>
  <AppVersion>15.0000</AppVersion>
  <Words>1025</Words>
  <Paragraphs>1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7:03:12Z</dcterms:created>
  <dc:creator>Лада</dc:creator>
  <dc:description/>
  <dc:language>en-US</dc:language>
  <cp:lastModifiedBy>Екатерина</cp:lastModifiedBy>
  <dcterms:modified xsi:type="dcterms:W3CDTF">2023-10-09T14:45:28Z</dcterms:modified>
  <cp:revision>23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2</vt:r8>
  </property>
</Properties>
</file>